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72A5-63EF-4F86-AC4E-6B325828C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2454-33BC-46E1-81F4-9DD6F019E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68F9-BCBB-4D9F-9BDA-EBA5778B9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1152.nicerweb.com/Locked/media/ch45/endocri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daviddarling.info/images/hypothalamu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3B39-F72D-4C73-B25D-2A9E92735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hypogal.com/wp-content/uploads/2014/11/Pituitary-HG.jp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FE71-AE2C-4BDE-942B-647346023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9040-BDF8-4C5A-916B-5F343F95E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9025-011E-422A-BA85-D2BC1D43A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2.estrellamountain.edu/faculty/farabee/Biobk/pituitary_2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reabsorption of water in distal convoluted tubule; Inhibited by alcohol &amp; caffe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tocin: childbirth, milk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4E7F-5691-40CB-8057-DA01D7D9D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inghaven.typepad.com/photos/fillmores_12_power/pineal-drawi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5A7B-D26C-43EB-8ECE-2ECFC337B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; http://www.uic.edu/classes/bios/bios100/lecturesf04am/adh01a,jp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D63E-742C-42D4-B5BA-67B75C848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2A6D-1D20-46B2-87F8-5DED8EB27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aloewellnessdc.com/wp-content/uploads/2014/10/hormon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opentextbc.ca/biology/chapter/18-3-regulation-of-body-process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239B-349A-4F64-82B2-D50B721D2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en.wikipedia.org/wiki/Renin–angiotensin_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7CE2-0FBB-45A2-838F-48BA2CB76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medical1stop.com/wp-content/uploads/Thyroid-Gland-Locat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279F-79D6-40F9-95F9-FE5D94203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nap.edu/openbook/0309095689/xhtml/images/p2000c8bag4400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D679-FA31-4B86-B6CC-98EB78FD1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8D85-636A-49AA-AD37-5E2EF7594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opentextbc.ca/anatomyandphysiology/chapter/17-4-the-thyroid-glan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ter image from: http://www.webmd.com/women/go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box image: http://poison-ivy-oak-sumac.com/fight-them/salt-vinegar-bleach-herbicid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32B9-7D15-4A6B-B4F0-55580FCFA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5832-F430-428A-AD01-FA5B29AD5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classconnection.s3.amazonaws.com/773/flashcards/681773/jpg/calcitonin1315169317026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3EAA-0979-4316-A067-F221F5925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123rf.com/photo_44929454_stock-vector-calcitonin-and-parathormone-hormonal-regulation-of-blood-calcium-levels-regulation-of-calcium-leve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E0A9-FCE1-43A9-A42E-D71787AC3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cf.ydcdn.net/1.0.1.44/images/main/adrenal%20gland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BCF2-3EB4-4BF4-8C40-1F460FED1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D20A-D10A-4C9A-B4AF-5FFBCC83B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tmguide.org/hormonebasic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B68B-AA0C-489C-886D-1EC0072BD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255F-9BA8-4006-A02B-5435C4A4F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courses.candelalearning.com/olianp/wp-content/uploads/sites/167/2014/11/E_M1_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3320-0944-4F2A-AE0B-E2E699256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559A-EEDC-4D98-A007-99EC2C07A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2805-C69E-4742-90FC-B4B49A9DE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choolworkhelper.net/2010/07/the-endocrine-system-function-and-structur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75AA-004B-4CC0-AE99-FB6919AF9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nekaeportfolio.blogspot.com/2011/02/identifying-classes-of-hormone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A779-0AE4-4799-B446-CD33573D8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5B6-933B-43D6-88F9-8CCBA3AC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72D-73A8-4956-9E45-54F4C689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9B8-9ACF-4012-858C-8A321A48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DAB-1EED-47DD-A237-728255A5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E53-DC9A-4E25-BEEA-FC3B702A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4E9-72E0-411C-9E30-AD2783EB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EA3-ED1E-4ED4-8FB2-35B9D331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C874-369D-4194-AB53-C8820E27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CE31-C889-481E-81FD-8355D955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977-2AD4-4D1F-A67E-39A23CC7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F38-1B52-4BDE-9002-E9CACC1A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CA4-EB1A-4C7C-8883-2D3C281A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F078-F0DA-4B52-B67A-0D99F0353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TgNwxF3aQp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mones: Chemical Reg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ocrine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45_06HumanEndocGlands"/>
          <p:cNvPicPr/>
          <p:nvPr/>
        </p:nvPicPr>
        <p:blipFill>
          <a:blip r:embed="rId1"/>
          <a:stretch/>
        </p:blipFill>
        <p:spPr>
          <a:xfrm>
            <a:off x="1131840" y="609480"/>
            <a:ext cx="6878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the brain &amp;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ohorm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are released from neurons into the bloodstream to the</a:t>
            </a: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5" descr="hypothalamus.gif"/>
          <p:cNvPicPr/>
          <p:nvPr/>
        </p:nvPicPr>
        <p:blipFill>
          <a:blip r:embed="rId1"/>
          <a:srcRect l="0" t="-9541" r="0" b="-954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l vein connects capillaries in hypothalamus to those in pitu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ing hormones &amp; inhibiting hormones act on the anterior pitu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ontent Placeholder 4" descr="Pituitary-HG.jpeg"/>
          <p:cNvPicPr/>
          <p:nvPr/>
        </p:nvPicPr>
        <p:blipFill>
          <a:blip r:embed="rId1"/>
          <a:srcRect l="0" t="-11787" r="0" b="-11787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rior Pitui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&amp; stores many hormones (prolactin, growth hormone, TSH, FSH, LH, ACTH, MSH, endorphin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painkiller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se are tropic hormones (they act on other endocrine gl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ontent Placeholder 2" descr="figure_06_04_labeled.jpg"/>
          <p:cNvPicPr/>
          <p:nvPr/>
        </p:nvPicPr>
        <p:blipFill>
          <a:blip r:embed="rId1"/>
          <a:srcRect l="0" t="4786" r="0" b="4786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erior Pitui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and releases 2 hormones produced by the hypothala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-diuretic hormone (ADH) &amp; oxyto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Content Placeholder 2" descr="pituitary_2.gif"/>
          <p:cNvPicPr/>
          <p:nvPr/>
        </p:nvPicPr>
        <p:blipFill>
          <a:blip r:embed="rId1"/>
          <a:srcRect l="0" t="-16694" r="0" b="-16694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6a01053603aa25970c010536c8ba2c970c-500wi"/>
          <p:cNvPicPr/>
          <p:nvPr/>
        </p:nvPicPr>
        <p:blipFill>
          <a:blip r:embed="rId1"/>
          <a:stretch/>
        </p:blipFill>
        <p:spPr>
          <a:xfrm>
            <a:off x="1266840" y="609480"/>
            <a:ext cx="661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eal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biological rhythms due to secretion of melato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atonin regulates biorhythms (th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clock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(detected by the eye) inhibits melatonin 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ory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diuretic hormone (AD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s on kidneys to reabsorb more water in the distal tubule &amp; collecting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inhibited by caffeine, alcohol; stimulated by nicotine, st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Content Placeholder 4" descr="adh01a,jpg.jpg"/>
          <p:cNvPicPr/>
          <p:nvPr/>
        </p:nvPicPr>
        <p:blipFill>
          <a:blip r:embed="rId1"/>
          <a:srcRect l="13220" t="0" r="13220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by cells in one part of the body that regulate processes in another part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2" descr="hormones.jpg"/>
          <p:cNvPicPr/>
          <p:nvPr/>
        </p:nvPicPr>
        <p:blipFill>
          <a:blip r:embed="rId1"/>
          <a:srcRect l="0" t="-20578" r="0" b="-20578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 Regulatory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ontent Placeholder 5" descr="Figure_37_03_01-1024x554.jpg"/>
          <p:cNvPicPr/>
          <p:nvPr/>
        </p:nvPicPr>
        <p:blipFill>
          <a:blip r:embed="rId1"/>
          <a:srcRect l="0" t="-1255" r="0" b="-1255"/>
          <a:stretch/>
        </p:blipFill>
        <p:spPr>
          <a:xfrm>
            <a:off x="324000" y="1700280"/>
            <a:ext cx="8569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Content Placeholder 6" descr="700px-Renin-angiotensin-aldosterone_system.png"/>
          <p:cNvPicPr/>
          <p:nvPr/>
        </p:nvPicPr>
        <p:blipFill>
          <a:blip r:embed="rId1"/>
          <a:srcRect l="0" t="-13769" r="0" b="-13769"/>
          <a:stretch/>
        </p:blipFill>
        <p:spPr>
          <a:xfrm>
            <a:off x="468360" y="47628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hormones important for growth, development, metabolism in all verteb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tent Placeholder 5" descr="Thyroid-Gland-Location.jpg"/>
          <p:cNvPicPr/>
          <p:nvPr/>
        </p:nvPicPr>
        <p:blipFill>
          <a:blip r:embed="rId1"/>
          <a:srcRect l="4167" t="0" r="4167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on of Me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H stimulates pituitary to release TSH, which causes thyroid to releas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verted to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acts on most cells to increase metabolic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ontent Placeholder 4" descr="p2000c8bag44001.jpg"/>
          <p:cNvPicPr/>
          <p:nvPr/>
        </p:nvPicPr>
        <p:blipFill>
          <a:blip r:embed="rId1"/>
          <a:srcRect l="-20066" t="0" r="-20066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ntent Placeholder 2" descr="1813_A_Classic_Negative_Feedback_Loop.jpg"/>
          <p:cNvPicPr/>
          <p:nvPr/>
        </p:nvPicPr>
        <p:blipFill>
          <a:blip r:embed="rId1"/>
          <a:srcRect l="-14985" t="0" r="-14985" b="0"/>
          <a:stretch/>
        </p:blipFill>
        <p:spPr>
          <a:xfrm>
            <a:off x="684360" y="549360"/>
            <a:ext cx="7848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1773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dine deficiency leads to inability to produc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loop causes over-stimulation of thy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Content Placeholder 6" descr="h9991416_001.jpg"/>
          <p:cNvPicPr/>
          <p:nvPr/>
        </p:nvPicPr>
        <p:blipFill>
          <a:blip r:embed="rId1"/>
          <a:srcRect l="19809" t="0" r="19809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TableSalt.png"/>
          <p:cNvPicPr/>
          <p:nvPr/>
        </p:nvPicPr>
        <p:blipFill>
          <a:blip r:embed="rId2"/>
          <a:stretch/>
        </p:blipFill>
        <p:spPr>
          <a:xfrm>
            <a:off x="2050920" y="4765680"/>
            <a:ext cx="20494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on of Calc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mon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iton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ecreted by thyroid 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s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vels in blood by stimulating deposition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reducing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ptake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idne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mall intes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Content Placeholder 2" descr="calcitonin1315169317026.jpg"/>
          <p:cNvPicPr/>
          <p:nvPr/>
        </p:nvPicPr>
        <p:blipFill>
          <a:blip r:embed="rId1"/>
          <a:srcRect l="0" t="-12637" r="0" b="-12637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thyroid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thyr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m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TH) when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release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idn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ncrease reabsorption &amp; to activate vitamin D  (causing cells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mall intes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ncrease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sorp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tent Placeholder 2" descr="image019.jpg"/>
          <p:cNvPicPr/>
          <p:nvPr/>
        </p:nvPicPr>
        <p:blipFill>
          <a:blip r:embed="rId1"/>
          <a:srcRect l="-27641" t="0" r="-27641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ontent Placeholder 6" descr="44929454-calcitonin-and-parathormone-Hormonal-regulation-of-blood-calcium-levels-Regulation-of-calcium-levels-Stock-Vector.jpg"/>
          <p:cNvPicPr/>
          <p:nvPr/>
        </p:nvPicPr>
        <p:blipFill>
          <a:blip r:embed="rId1"/>
          <a:srcRect l="-48165" t="0" r="-48165" b="0"/>
          <a:stretch/>
        </p:blipFill>
        <p:spPr>
          <a:xfrm>
            <a:off x="395280" y="333360"/>
            <a:ext cx="8424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al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du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retes neurohormones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ineph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renaline) &amp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epineph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radrenaline) in your body’s stress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ontent Placeholder 5" descr="adrenal gland.jpg"/>
          <p:cNvPicPr/>
          <p:nvPr/>
        </p:nvPicPr>
        <p:blipFill>
          <a:blip r:embed="rId1"/>
          <a:srcRect l="-15414" t="0" r="-15414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receptors"/>
          <p:cNvPicPr/>
          <p:nvPr/>
        </p:nvPicPr>
        <p:blipFill>
          <a:blip r:embed="rId1"/>
          <a:stretch/>
        </p:blipFill>
        <p:spPr>
          <a:xfrm>
            <a:off x="685800" y="2638440"/>
            <a:ext cx="77724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al Cort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rt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retes hormones such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doster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smoregulation)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tis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lood glucose regu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ontent Placeholder 2" descr="adrenal gland.jpg"/>
          <p:cNvPicPr/>
          <p:nvPr/>
        </p:nvPicPr>
        <p:blipFill>
          <a:blip r:embed="rId1"/>
          <a:srcRect l="-15414" t="0" r="-15414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ocri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nds secrete hormones directly into the blood or E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oc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lands (sweat, salivary glands) secrete into 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3" descr="E_M1_7.jpg"/>
          <p:cNvPicPr/>
          <p:nvPr/>
        </p:nvPicPr>
        <p:blipFill>
          <a:blip r:embed="rId1"/>
          <a:srcRect l="0" t="-2366" r="0" b="-2366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vs. Nerv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ystems integrate and control organs and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ous system helps body to adju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c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 system maintains control ov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nger periods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mino acid chains and water-soluble; diffuse well through blood and fl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r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derived from cholesterol and soluble in blood when combined with carrier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rotein-hormones"/>
          <p:cNvPicPr/>
          <p:nvPr/>
        </p:nvPicPr>
        <p:blipFill>
          <a:blip r:embed="rId1"/>
          <a:stretch/>
        </p:blipFill>
        <p:spPr>
          <a:xfrm>
            <a:off x="2135160" y="1981080"/>
            <a:ext cx="487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-Soluble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steroid-hormone"/>
          <p:cNvPicPr/>
          <p:nvPr/>
        </p:nvPicPr>
        <p:blipFill>
          <a:blip r:embed="rId1"/>
          <a:stretch/>
        </p:blipFill>
        <p:spPr>
          <a:xfrm>
            <a:off x="2484360" y="1981080"/>
            <a:ext cx="417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types of hormones &amp; how they interact with their target cells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TgNwxF3aQ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0:21:50Z</dcterms:created>
  <dc:creator>rubina khan</dc:creator>
  <dc:description/>
  <dc:language>en-US</dc:language>
  <cp:lastModifiedBy>rubina khan</cp:lastModifiedBy>
  <dcterms:modified xsi:type="dcterms:W3CDTF">2017-05-03T13:37:40Z</dcterms:modified>
  <cp:revision>216</cp:revision>
  <dc:subject/>
  <dc:title>Importance of the Endocrine System</dc:title>
</cp:coreProperties>
</file>